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36E-2B59-411B-A516-206C9E23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BD0-E5B2-4CEF-B420-B90A4B1D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2FC-2C6A-48E2-8C89-020B84B0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064-334A-4DEB-80EC-B3064BBD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59D-F4DC-48C4-8BD0-F0C4F87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1BB5-594A-48E9-9DBA-F5F70E5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FC5C-DF4A-4966-9055-EDA4D3B0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945-6C13-4401-829F-37343C38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B069-6E00-4E46-87EC-94B9E47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FDE6-240C-48D6-9209-5F64A38C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E7E-8EA4-41F8-8F13-54C8E53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E78-CA35-484E-838B-E90C081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6D89-D1F8-466C-B6FC-4252921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D727-EF0F-4C75-83F0-9536F88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A2F-C484-453A-A9DC-1D9706C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490F-13C6-44DC-8EC4-02F0B02A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868-0B5D-4F5E-997E-E634D21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063-1B70-4439-B81F-F6E446F1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3C4-3E83-4086-9EAA-EA66F0EF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4C1-94C8-42A9-AA57-5A03B28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3CE-6F84-4420-ACF3-F1034836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7C6-CF03-4203-9EE3-71DEEB5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E0-5033-4B71-8FD6-C3238DA2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763-A8F4-4E29-9CED-4E55E28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219-DFDA-449D-B60D-31EC1FF088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3E8C-3F86-4F36-9117-9FAD3F426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eb.mit.edu/invent/iow/frysilver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1289200">
            <a:off x="1599840" y="1294920"/>
            <a:ext cx="7978680" cy="26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Post-it No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4800600"/>
            <a:ext cx="1752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9810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514600" cy="1725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54864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d Min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October 05, 2010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9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VENTION: Post-it Not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 Notes are one of the most commonly used piece of office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created in the early 1970’s by a man named Arthur L. F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s can be any shape o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ost-its have a small strip of an adhesive created by Spencer F. Silver in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57800" y="5486400"/>
            <a:ext cx="1173240" cy="12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VENTOR: Arthur Fry / 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pencer Silv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 Fry was born 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went to the University of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retired in the 199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cer Silver was born in San Ant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jored in chemistry at Arizo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created the adhesive on post-it 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Art"/>
          <p:cNvPicPr/>
          <p:nvPr/>
        </p:nvPicPr>
        <p:blipFill>
          <a:blip r:embed="rId1"/>
          <a:stretch/>
        </p:blipFill>
        <p:spPr>
          <a:xfrm>
            <a:off x="228600" y="304920"/>
            <a:ext cx="3670200" cy="4800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pencer"/>
          <p:cNvPicPr/>
          <p:nvPr/>
        </p:nvPicPr>
        <p:blipFill>
          <a:blip r:embed="rId2"/>
          <a:stretch/>
        </p:blipFill>
        <p:spPr>
          <a:xfrm>
            <a:off x="4876920" y="1371600"/>
            <a:ext cx="3676680" cy="497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63244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0"/>
            <a:ext cx="396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meloons MIT progra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T FRY &amp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PENCER SIL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ednesday, September 29, 2010,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http://web.mit.edu/invent/iow/frysil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7Z</dcterms:created>
  <dc:creator>install</dc:creator>
  <dc:description/>
  <dc:language>en-US</dc:language>
  <cp:lastModifiedBy>install</cp:lastModifiedBy>
  <dcterms:modified xsi:type="dcterms:W3CDTF">2010-10-13T18:06:31Z</dcterms:modified>
  <cp:revision>13</cp:revision>
  <dc:subject/>
  <dc:title>Slide 1</dc:title>
</cp:coreProperties>
</file>